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3172-7239-4B75-86BF-39534189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directions, and 6-8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with question and 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1 = all aca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“social” dim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“to le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“to dece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and solicit more – not necessarily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to br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to borrow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+ 8 i= play with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n first clic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ult academic list = same as before = britis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ecesssarily parallel,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 and add to social lists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e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= spin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predictable = lis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ill in more academic and soc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= all = emphasize WHY WHO/TO or FOR WHOM/ and W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= How = step by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H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= “step by ste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= “by ste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CEA-254B-47E1-ADC5-91A532FE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F45-F535-4A28-B067-F7D6E0AD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677-E444-4745-B913-4ED6042F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B86-AB26-49BC-942F-FAB99A92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AB8-DBB3-48B2-B017-6B1DCF66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ED5-F968-4083-969C-F648E347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4B2-1AA1-4E96-9202-0C73A474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5C9-3EA5-49B7-B752-5495FCCC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F80-1295-48B2-8CCF-7053CBF5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DE3-32CE-4F17-94B4-7AA6A052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897-9FF3-4681-AC74-A748CE10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186-48BE-4E34-B3E9-8AEE0B44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C619-8F4C-4D80-A560-A5BE20137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245520"/>
            <a:ext cx="7543800" cy="3168000"/>
            <a:chOff x="152280" y="245520"/>
            <a:chExt cx="7543800" cy="3168000"/>
          </a:xfrm>
        </p:grpSpPr>
        <p:sp>
          <p:nvSpPr>
            <p:cNvPr id="49" name=""/>
            <p:cNvSpPr/>
            <p:nvPr/>
          </p:nvSpPr>
          <p:spPr>
            <a:xfrm>
              <a:off x="152280" y="245520"/>
              <a:ext cx="7543800" cy="316800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5040" y="337680"/>
              <a:ext cx="372888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de 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45640" y="711000"/>
              <a:ext cx="6156360" cy="260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Your name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Monotype Corsiva"/>
                  <a:ea typeface="Times New Roman"/>
                </a:rPr>
                <a:t>?         ?         ?</a:t>
              </a:r>
              <a:r>
                <a:rPr b="1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	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I teach __</a:t>
              </a:r>
              <a:r>
                <a:rPr b="1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?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___  grade [and __</a:t>
              </a:r>
              <a:r>
                <a:rPr b="1" lang="en-US" sz="1800" spc="-1" strike="noStrike">
                  <a:solidFill>
                    <a:srgbClr val="ff0000"/>
                  </a:solidFill>
                  <a:latin typeface="Monotype Corsiva"/>
                  <a:ea typeface="Times New Roman"/>
                </a:rPr>
                <a:t>?</a:t>
              </a: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___  grade] [R/P] {I/M] [Both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For me, the best thing about teaching within the R/P   I/M framework 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838080" y="3657600"/>
            <a:ext cx="7848720" cy="30481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733920"/>
            <a:ext cx="3276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167360"/>
            <a:ext cx="6400800" cy="23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For me, the worst thing about teaching within the R/P   I/M framework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160" y="-3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60" y="-3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8160" y="3024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A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r else, why bother?]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TASK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590920" y="130320"/>
          <a:ext cx="3047760" cy="67276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cade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V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RG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SCRI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TER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L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L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MAG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ERSU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57200" y="304920"/>
            <a:ext cx="182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o people spea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1522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152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522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152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6858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525780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1219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5334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79132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ORR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1968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90920" y="130320"/>
          <a:ext cx="6248160" cy="6727680"/>
        </p:xfrm>
        <a:graphic>
          <a:graphicData uri="http://schemas.openxmlformats.org/drawingml/2006/table">
            <a:tbl>
              <a:tblPr/>
              <a:tblGrid>
                <a:gridCol w="3124080"/>
                <a:gridCol w="312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cade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DVI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V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RG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F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SCRI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TER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CH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L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L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MAG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CRE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ERSU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PL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457200" y="83808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2133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r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18493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905120" y="130320"/>
          <a:ext cx="6781680" cy="5787720"/>
        </p:xfrm>
        <a:graphic>
          <a:graphicData uri="http://schemas.openxmlformats.org/drawingml/2006/table">
            <a:tbl>
              <a:tblPr/>
              <a:tblGrid>
                <a:gridCol w="3390840"/>
                <a:gridCol w="339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cade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EAR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GET ADVI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ASS TE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ASS THE TI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ENTERTAIN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INFORM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COO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52280" y="304920"/>
            <a:ext cx="182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do peopl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04920" y="3581280"/>
            <a:ext cx="2210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905120" y="130320"/>
          <a:ext cx="6781680" cy="6632280"/>
        </p:xfrm>
        <a:graphic>
          <a:graphicData uri="http://schemas.openxmlformats.org/drawingml/2006/table">
            <a:tbl>
              <a:tblPr/>
              <a:tblGrid>
                <a:gridCol w="3390840"/>
                <a:gridCol w="339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Acade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cc"/>
                          </a:solidFill>
                          <a:latin typeface="Arial"/>
                        </a:rPr>
                        <a:t>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GET ADV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ASS T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E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EARN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POL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INFORM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W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CO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ENTERTAI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152280" y="304920"/>
            <a:ext cx="1828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o peopl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ist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5331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WITH A PURPO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and this “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 often includes “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o/to wh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7640"/>
            <a:ext cx="49528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825560" cy="1717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95280" y="30481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essay, speech, poem, article, note, anecdote, story, lesson, painting, etc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 rot="10800000">
            <a:off x="914400" y="58208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0800000">
            <a:off x="1447920" y="5257440"/>
            <a:ext cx="73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step by step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82556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191120" y="51055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79840" y="5522760"/>
            <a:ext cx="199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867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by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838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762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1:00:28Z</dcterms:created>
  <dc:creator>PhilipFranklin</dc:creator>
  <dc:description/>
  <dc:language>en-US</dc:language>
  <cp:lastModifiedBy>PhilipFranklin</cp:lastModifiedBy>
  <dcterms:modified xsi:type="dcterms:W3CDTF">2008-02-26T13:17:24Z</dcterms:modified>
  <cp:revision>37</cp:revision>
  <dc:subject/>
  <dc:title>Slide 1</dc:title>
</cp:coreProperties>
</file>